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9C8-995A-4BE3-A6BC-0229DAE6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014-AE26-44F7-A975-33121393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AF0-5368-472A-A763-E2958664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52F-9258-4757-AB7A-7A1D588D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AD3-2DEC-4E7A-8CDF-CE0D4DA3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E0E-5A85-440C-A2A7-CEACDBBB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3B9-1F19-433B-8869-4A892EB5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CA2-897B-4585-8D86-0036BDC8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C50-0B18-4209-A00C-A782E5FD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F02-C9C1-48C7-AF31-8F8B0C7B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A25-42A7-4465-B4D9-C691A92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626-AFEA-4248-BEF1-7182489C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C115-45EF-4952-A3E3-C205004FF6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268280"/>
            <a:ext cx="7991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On the left will appear the European countries, with your mouse drag and drop them on the place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t may look easy but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ShockwaveFlash1"/>
          <p:cNvGraphicFramePr/>
          <p:nvPr/>
        </p:nvGraphicFramePr>
        <p:xfrm>
          <a:off x="0" y="83664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40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343640" y="6453360"/>
            <a:ext cx="1800360" cy="404640"/>
          </a:xfrm>
          <a:custGeom>
            <a:avLst/>
            <a:gdLst>
              <a:gd name="textAreaLeft" fmla="*/ 25920 w 1800360"/>
              <a:gd name="textAreaRight" fmla="*/ 1774440 w 1800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6038" h="21600">
                <a:moveTo>
                  <a:pt x="0" y="0"/>
                </a:moveTo>
                <a:lnTo>
                  <a:pt x="96038" y="0"/>
                </a:lnTo>
                <a:lnTo>
                  <a:pt x="96038" y="21600"/>
                </a:lnTo>
                <a:lnTo>
                  <a:pt x="0" y="21600"/>
                </a:lnTo>
                <a:close/>
              </a:path>
              <a:path fill="lightenLess" w="96038" h="21600">
                <a:moveTo>
                  <a:pt x="0" y="0"/>
                </a:moveTo>
                <a:lnTo>
                  <a:pt x="96038" y="0"/>
                </a:lnTo>
                <a:lnTo>
                  <a:pt x="94638" y="1400"/>
                </a:lnTo>
                <a:lnTo>
                  <a:pt x="1400" y="1400"/>
                </a:lnTo>
                <a:close/>
              </a:path>
              <a:path fill="darken" w="96038" h="21600">
                <a:moveTo>
                  <a:pt x="96038" y="0"/>
                </a:moveTo>
                <a:lnTo>
                  <a:pt x="96038" y="21600"/>
                </a:lnTo>
                <a:lnTo>
                  <a:pt x="94638" y="20200"/>
                </a:lnTo>
                <a:lnTo>
                  <a:pt x="94638" y="1400"/>
                </a:lnTo>
                <a:close/>
              </a:path>
              <a:path fill="darkenLess" w="96038" h="21600">
                <a:moveTo>
                  <a:pt x="96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638" y="20200"/>
                </a:lnTo>
                <a:close/>
              </a:path>
              <a:path fill="lighten" w="96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endshow"/>
          </p:cNvPr>
          <p:cNvSpPr/>
          <p:nvPr/>
        </p:nvSpPr>
        <p:spPr>
          <a:xfrm flipV="1">
            <a:off x="7308720" y="6453360"/>
            <a:ext cx="1835280" cy="404640"/>
          </a:xfrm>
          <a:custGeom>
            <a:avLst/>
            <a:gdLst>
              <a:gd name="textAreaLeft" fmla="*/ 25920 w 1835280"/>
              <a:gd name="textAreaRight" fmla="*/ 1809360 w 1835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7901" h="21600">
                <a:moveTo>
                  <a:pt x="0" y="0"/>
                </a:moveTo>
                <a:lnTo>
                  <a:pt x="97901" y="0"/>
                </a:lnTo>
                <a:lnTo>
                  <a:pt x="97901" y="21600"/>
                </a:lnTo>
                <a:lnTo>
                  <a:pt x="0" y="21600"/>
                </a:lnTo>
                <a:close/>
              </a:path>
              <a:path fill="lightenLess" w="97901" h="21600">
                <a:moveTo>
                  <a:pt x="0" y="0"/>
                </a:moveTo>
                <a:lnTo>
                  <a:pt x="97901" y="0"/>
                </a:lnTo>
                <a:lnTo>
                  <a:pt x="96501" y="1400"/>
                </a:lnTo>
                <a:lnTo>
                  <a:pt x="1400" y="1400"/>
                </a:lnTo>
                <a:close/>
              </a:path>
              <a:path fill="darken" w="97901" h="21600">
                <a:moveTo>
                  <a:pt x="97901" y="0"/>
                </a:moveTo>
                <a:lnTo>
                  <a:pt x="97901" y="21600"/>
                </a:lnTo>
                <a:lnTo>
                  <a:pt x="96501" y="20200"/>
                </a:lnTo>
                <a:lnTo>
                  <a:pt x="96501" y="1400"/>
                </a:lnTo>
                <a:close/>
              </a:path>
              <a:path fill="darkenLess" w="97901" h="21600">
                <a:moveTo>
                  <a:pt x="97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501" y="20200"/>
                </a:lnTo>
                <a:close/>
              </a:path>
              <a:path fill="lighten" w="97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901" h="21600">
                <a:moveTo>
                  <a:pt x="41944" y="7493"/>
                </a:moveTo>
                <a:lnTo>
                  <a:pt x="45452" y="7493"/>
                </a:lnTo>
                <a:lnTo>
                  <a:pt x="45452" y="12828"/>
                </a:lnTo>
                <a:cubicBezTo>
                  <a:pt x="45452" y="13751"/>
                  <a:pt x="46252" y="14482"/>
                  <a:pt x="47288" y="14482"/>
                </a:cubicBezTo>
                <a:lnTo>
                  <a:pt x="48950" y="14482"/>
                </a:lnTo>
                <a:cubicBezTo>
                  <a:pt x="49986" y="14482"/>
                  <a:pt x="50787" y="13751"/>
                  <a:pt x="50787" y="12828"/>
                </a:cubicBezTo>
                <a:lnTo>
                  <a:pt x="50787" y="7493"/>
                </a:lnTo>
                <a:lnTo>
                  <a:pt x="48950" y="7493"/>
                </a:lnTo>
                <a:lnTo>
                  <a:pt x="52458" y="3985"/>
                </a:lnTo>
                <a:lnTo>
                  <a:pt x="56131" y="7493"/>
                </a:lnTo>
                <a:lnTo>
                  <a:pt x="54294" y="7493"/>
                </a:lnTo>
                <a:lnTo>
                  <a:pt x="54294" y="12828"/>
                </a:lnTo>
                <a:cubicBezTo>
                  <a:pt x="54294" y="15596"/>
                  <a:pt x="51718" y="18155"/>
                  <a:pt x="48950" y="18155"/>
                </a:cubicBezTo>
                <a:lnTo>
                  <a:pt x="47288" y="18155"/>
                </a:lnTo>
                <a:cubicBezTo>
                  <a:pt x="44520" y="18155"/>
                  <a:pt x="41944" y="15596"/>
                  <a:pt x="4194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7:32:11Z</dcterms:created>
  <dc:creator>madeleine de schutter</dc:creator>
  <dc:description/>
  <dc:language>en-US</dc:language>
  <cp:lastModifiedBy>RDSC</cp:lastModifiedBy>
  <dcterms:modified xsi:type="dcterms:W3CDTF">2006-09-13T06:38:50Z</dcterms:modified>
  <cp:revision>19</cp:revision>
  <dc:subject/>
  <dc:title>Dia 1</dc:title>
</cp:coreProperties>
</file>